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C05-E4CD-4210-9842-95C91191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9012-DC6F-4D3D-965F-CADF286A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769-3A92-4777-ACC0-D9F6E15D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3D5D-2663-4CB8-8846-DA0B2703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5247-67D2-48FE-BFAA-7DF7CE10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47FB-0126-4470-86D2-3EF6A82E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A62-D872-4111-8F82-2C87DDCA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E403-ED45-4079-8F8F-0258F4F5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B1E-7133-44DF-8A61-8DF6F95D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97B-879E-40DA-8F9B-93321F54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1A5-F305-487B-8217-3FA0A1CB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306-22C0-408C-8188-F0456349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61DC-EFBC-4CEE-AD6D-5052C7634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dotcalmvillage.net/nowwhatzine8/zinegraphics8/mistakes.jpg&amp;imgrefurl=http://cashound.blogspot.com/2007/07/6-mistakes-people-make-with-adsense.html&amp;h=232&amp;w=250&amp;sz=19&amp;hl=en&amp;start=3&amp;tbnid=-6D69HJ8wQqzIM:&amp;tbnh=103&amp;tbnw=111&amp;prev=/images%3Fq%3Dmistakes%26gbv%3D2%26svnum%3D10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ache.eb.com/eb/image%3Fid%3D61217%26rendTypeId%3D4&amp;imgrefurl=http://concise.britannica.com/ebc/art-51523/Hamid-Estili-celebrates-after-scoring-a-goal-during-Irans-victory&amp;h=350&amp;w=274&amp;sz=21&amp;hl=en&amp;start=1&amp;um=1&amp;tbnid=zBC6HtpkE62-xM:&amp;tbnh=120&amp;tbnw=94&amp;prev=/images%3Fq%3Dscoring%2Ba%2Bgoal%26svnum%3D10%26um%3D1%26hl%3De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.uk/imgres?imgurl=http://www.nancarrow-webdesk.com/warehouse/storage2/2007-w44/img.55185_t.jpg&amp;imgrefurl=http://www.nancarrow-webdesk.com/warehouse/storage2/2007-w44/img.55185.html&amp;h=400&amp;w=313&amp;sz=11&amp;hl=en&amp;start=1&amp;um=1&amp;tbnid=OuoU2Qz0BdYmAM:&amp;tbnh=124&amp;tbnw=97&amp;prev=/images%3Fq%3Dmissing%2Ba%2Bgoal%26svnum%3D10%26um%3D1%26hl%3Den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improve your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9228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t the mistak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404640"/>
            <a:ext cx="27860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your new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now use your new skills for writing sentences to improve what you wrote in last week’s unseen poetry tes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commas, full stops and connectives that are in the wrong place or should be chang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look for sentences that are missing connectiv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hange the connective if you think the sentence would make more sen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didate no.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The content of the poem is important it shows the writer’s true opinions of l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Answers you could have given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The content of the poem is importan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Bodoni MT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it shows the writer’s true opinions of lov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The content of the poem is important.  It shows the writer’s true opinions of lov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OR any of these connectives between ‘important’ and ‘it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	</a:t>
            </a:r>
            <a:r>
              <a:rPr b="1" lang="en-US" sz="2800" spc="-1" strike="noStrike">
                <a:solidFill>
                  <a:srgbClr val="993366"/>
                </a:solidFill>
                <a:latin typeface="Bodoni MT"/>
              </a:rPr>
              <a:t>because   therefore   s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check the spelling mistak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35280" y="2038320"/>
            <a:ext cx="547344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have been writt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8370720" cy="4525920"/>
        </p:xfrm>
        <a:graphic>
          <a:graphicData uri="http://schemas.openxmlformats.org/drawingml/2006/table">
            <a:tbl>
              <a:tblPr/>
              <a:tblGrid>
                <a:gridCol w="2212920"/>
                <a:gridCol w="2011320"/>
                <a:gridCol w="2109960"/>
                <a:gridCol w="2036520"/>
              </a:tblGrid>
              <a:tr h="20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iti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htoric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est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l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ragrap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r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th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l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340840" cy="4525920"/>
        </p:xfrm>
        <a:graphic>
          <a:graphicData uri="http://schemas.openxmlformats.org/drawingml/2006/table">
            <a:tbl>
              <a:tblPr/>
              <a:tblGrid>
                <a:gridCol w="2174760"/>
                <a:gridCol w="2011320"/>
                <a:gridCol w="2075040"/>
                <a:gridCol w="2079720"/>
              </a:tblGrid>
              <a:tr h="20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ti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etoric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t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l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rap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th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all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make things hard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looking for spelling mistakes but now you must also spot where connectives, commas and full stops should be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60036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didate no.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bout love, the writer trys to find the words to tell someone that they love h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uses repetition in some parts of the poem, when she says, “I love you, I love you, I love you,” this gives the impression that she is despara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forget to use capitals for the beginning of sentences and for names BUT NOWHERE EL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should not appear in the middle of a word – e.g. d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n’t, f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or dec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so, don’t ever writ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y itself – always writ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br>
              <a:rPr sz="2800"/>
            </a:br>
            <a:br>
              <a:rPr sz="2800"/>
            </a:br>
            <a:r>
              <a:rPr b="1" lang="en-GB" sz="2400" spc="-1" strike="noStrike">
                <a:solidFill>
                  <a:srgbClr val="993366"/>
                </a:solidFill>
                <a:latin typeface="Arial"/>
              </a:rPr>
              <a:t>THESE POINTS ARE VERY IMPORTANT AND FAILURE TO COMPLY MAY RESULT IN THE LOSS OF 5% IN YOUR EXAM – I.E. HALF A GRAD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 the sentences be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em “these words” is about someone who is in love with someo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riter is really trying to emphasise the meaning of love.  by not only saying it once but saying it many times als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the writer is trying to develop their ideas and i wouldn’t change his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377496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arating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most common mistakes in writing is not separating sentences properly.  Often, two sentences are merged into one and/or separated with a comma, which is wro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riter shows he is in love, he also doesn’t think he’s good enoug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WRONG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is should actually be written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riter shows he is in love.  He also doesn’t think he’s good enoug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riter shows he is in love and he also doesn’t think he’s good enoug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for separating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separating two full sentences with a comma, use either a full stop OR a connective (as shown in the previous slid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ves you could use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788000" y="1628640"/>
          <a:ext cx="3281400" cy="3600720"/>
        </p:xfrm>
        <a:graphic>
          <a:graphicData uri="http://schemas.openxmlformats.org/drawingml/2006/table">
            <a:tbl>
              <a:tblPr/>
              <a:tblGrid>
                <a:gridCol w="1531800"/>
                <a:gridCol w="17496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f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a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 flipV="1">
            <a:off x="3924360" y="4581360"/>
            <a:ext cx="71892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573408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B.  A full sentence is a clause that makes sense on its 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t the mistak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out the mistakes in the following lines and correct them appropriatel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oem is full of action verbs to give it pace, this shows the writer is trying to mimic the effect of wa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‘cry’ makes us sympathise with the writer, they aren’t as tough as they first se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using a full 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oem is full of action verbs to give it pace.  This shows the writer is trying to mimic the effect of war.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‘cry’ makes us sympathise with the writer.  They aren’t as tough as they first seem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using conn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oem is full of action verbs to give it pac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s shows the writer is trying to mimic the effect of war.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‘cry’ makes us sympathise with the writer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y aren’t as tough as they first seem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connectives need a full stop and a co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o separate two sentences you can choose a connective but it also needs a full stop in front of it and a comma afterwar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e.g. I hate doing coursework however, it means I do less exam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WRONG!  This should re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I hate doing coursework.  However, it means I do less exam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sentences need a comma and a full sto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following sentences and decide which ones need a comma before the conn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357720"/>
            <a:ext cx="2143080" cy="273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3357720"/>
            <a:ext cx="2084400" cy="2663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51280" y="3500280"/>
            <a:ext cx="129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t or mi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’s your ca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 or no to a full stop and/or a com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od tasted great therefore it didn’t need sal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od tasted great and it didn’t need sa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od tasted rubbish but it didn’t need sal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od was awful so it didn’t need sa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od was delicious nevertheless it needed sal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od was rancid however it looked go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od was yummy because Miss Gregory had made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8:15:22Z</dcterms:created>
  <dc:creator>agregory</dc:creator>
  <dc:description/>
  <dc:language>en-US</dc:language>
  <cp:lastModifiedBy>agregory</cp:lastModifiedBy>
  <dcterms:modified xsi:type="dcterms:W3CDTF">2008-01-21T10:39:06Z</dcterms:modified>
  <cp:revision>48</cp:revision>
  <dc:subject/>
  <dc:title>How to improve your writing</dc:title>
</cp:coreProperties>
</file>